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9.wmf" ContentType="image/x-wmf"/>
  <Override PartName="/ppt/media/image42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061-788A-4DCA-95FD-D54EC1A2D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43C8-5015-4140-AFFC-47D4EC2BE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oijoijoijioijoijoij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BD1-B726-4D79-ACCA-286EC15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6CC-90E2-4A14-8EA8-D77E830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C32-186F-439A-85AA-7895AC1A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B95-5273-4CF5-A07E-0370E309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434-5EA6-46C7-BE66-B380CFB6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FC19-6202-4555-92E6-B440FB09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929-20A0-4F4D-9650-6369808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57E-B8CF-4BDD-AE3E-5ADCF1F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7780-C97A-4E84-BC1A-63BF1E0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73E-E24A-4E51-BFD2-893D15C4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754-2B5C-4805-9FB6-926C092F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A40-7154-4DDF-81B5-68DB8C4B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BB06-14B9-4AAE-AC70-799BF39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E826-A8E6-43D3-9F77-A807356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9F4-2888-4EC3-9E47-4180EAD5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AC35-FCA9-44BB-BB1B-750D4445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E04-F33F-4147-92E9-E5E40335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1251-5E42-4B3D-ACE1-AE83A6B4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8ECC-1FB6-47EA-A11A-3DF165B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8D72-E2ED-4BB4-A61A-1AE0E516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0CC2-90FE-411D-8707-F8DD1C8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766B-53A8-4460-9633-20F526D8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F0C-62D9-4F0A-9ACB-F673E75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961C-78D3-4E6A-AC4E-B0EE70CC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BD44-DD85-49C0-A92A-2C6732D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5C47-78CA-4545-A9CF-E0C0A57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9A6D-E044-499F-8802-CDDBD0E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D7A8-CF48-4FD2-89F0-E2CD45DA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A1D3-59C1-49C3-870B-F01CC0B2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73C1-FD87-47C1-8DDC-6F918F15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6E4F-AAF6-4F2B-B345-A598C572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D7EB-3148-4F8A-8267-4752AA1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C42F-8951-40A0-BD95-9DE30BD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8EF-E454-4B8E-8F17-F60B8FA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6B65-F91D-4357-BC47-B002D5B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F6A43-C136-4658-AFC5-C2E23CA8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BDC2-9461-46EB-B96C-BF6F047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F37E-59F0-4992-9906-B658510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6BF0-DB62-4EB3-BCE9-217F6D5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5E6C-A941-43C6-890B-FAA9E58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30E1-0661-46A7-8314-A8BE9956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0E86-6366-43B9-B81E-C08D7F1E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2704-0B78-400E-B977-013B1C14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D632-12AB-41A2-9BF6-E7AA75D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C19-1562-4B57-804D-52E2A003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400B-A978-4803-99F4-343B268A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3C51B-CA14-4C20-BE38-DC18C23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0E9F-A8CD-4E09-8151-0B9B7C36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54EA-AA3A-4E1E-8850-ED00FD8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C8BA-95E8-48DB-B4E7-5855F2C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D943-1F55-4292-A2F0-7BE3C64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A45E-D6E6-4028-BDE5-99E9B7A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7BB0-D349-4702-8C6C-9E5746D4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9CA5-0A4D-466E-8878-F4AB3AE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8DB0-89E1-4ACB-A6FA-05B6CCED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6A7-D3AF-4859-AC25-4E97B2A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7DF6C-C683-4CF8-9CB1-B114AB2A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E7E-1983-4DD8-BCA6-3B15CA0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8A9-5B71-4623-8362-969670B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AFE-42DC-4291-A2FC-690CAB8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7CC2-ED0F-43C3-9A37-60C5EF2621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522-2D5D-4790-B765-0E0D6EE0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AB2-7E79-4EC9-A76F-C10AB8CFF58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2B28-0CB4-4FE8-9FF9-F503FB6C34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74F-1FD7-47CC-8F23-CB6E12F89D7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en.wikipedia.org/wiki/Image:DavidSouter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Image:Anthony_Kennedy_Official.jpg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hyperlink" Target="http://en.wikipedia.org/wiki/Image:Samuel_Alito_Court_of_Appeals_photo.jpg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Judicial Branch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P Politica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) U.S. Courts of App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help lessen the work load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appeals from U.S. district cour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U.S. Court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s are divided into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circu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or geographic judicial districts (not every state has 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so a circuit for Washington, D.C. and a special appeals court with national jurisd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only review cases already decided by a lower cou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nel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judges decide cases in the Courts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minated by President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Courts of Appeal Circui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7" descr="image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)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ly court actually created directly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est cour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the federal judici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authority in dealing with questions arising from the Constitution, federal laws, and trea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bo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and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0%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cases a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om lower feder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gress establishes the size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size –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ssociate justices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hief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nominated by President of the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lif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ef Justice John Roberts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Official_roberts_CJ"/>
          <p:cNvPicPr/>
          <p:nvPr/>
        </p:nvPicPr>
        <p:blipFill>
          <a:blip r:embed="rId2"/>
          <a:stretch/>
        </p:blipFill>
        <p:spPr>
          <a:xfrm>
            <a:off x="5715000" y="1371600"/>
            <a:ext cx="1646280" cy="21034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5" descr="David Hackett Sou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8640" y="3789360"/>
            <a:ext cx="10443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Anthony McLeod Kenned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9" descr="AntoninScalia"/>
          <p:cNvPicPr/>
          <p:nvPr/>
        </p:nvPicPr>
        <p:blipFill>
          <a:blip r:embed="rId8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Samuel Anthony Alit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"/>
          <p:cNvPicPr/>
          <p:nvPr/>
        </p:nvPicPr>
        <p:blipFill>
          <a:blip r:embed="rId11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"/>
          <p:cNvPicPr/>
          <p:nvPr/>
        </p:nvPicPr>
        <p:blipFill>
          <a:blip r:embed="rId12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4" descr="Robertsoath"/>
          <p:cNvPicPr/>
          <p:nvPr/>
        </p:nvPicPr>
        <p:blipFill>
          <a:blip r:embed="rId1"/>
          <a:stretch/>
        </p:blipFill>
        <p:spPr>
          <a:xfrm>
            <a:off x="762120" y="144792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Alitoswornin"/>
          <p:cNvPicPr/>
          <p:nvPr/>
        </p:nvPicPr>
        <p:blipFill>
          <a:blip r:embed="rId2"/>
          <a:stretch/>
        </p:blipFill>
        <p:spPr>
          <a:xfrm>
            <a:off x="4191120" y="35053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mal qualifications for federal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deral judges ser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during good behavior”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generally means for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hy?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llows judges to be free from political pressures when deciding cases (don’t have to worry about being re-elec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removed from office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conv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ederal judges impeached 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7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nd guilty and rem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Lower Cour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ident has little to do with cho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e to large # of appointments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partment o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ouse staf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ndle most of these no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atorial Courte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ing senators from president’s party who represents the state with the vacancy to approve or disapprove nomin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Supreme Cour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ident gives more attention to nominations to Supreme Court (higher visibility and import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making appointments, presidents often consi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rty affili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from their pol.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philosoph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who share their political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ce, gender, religion, reg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experience as judge or attorn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tmus test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based on their view on 1 single issue (ex. Abor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ceptabilit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who is non-controversial and will be easily confirmed by the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Background of Supreme Court Judg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most all federal judges ha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d legal tra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ld positions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yers for leading law fi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federal district attor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 school profess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 African-Americans, Hispanics, or Wo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Lyndon B. Johns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African Americ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preme Court Justic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urgood Mars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Ronald Reag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the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female Supreme Court Justice, Sandra Day O’Conn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4" name="Picture 4" descr="aa_marshallthrgd_law_3_e"/>
          <p:cNvPicPr/>
          <p:nvPr/>
        </p:nvPicPr>
        <p:blipFill>
          <a:blip r:embed="rId1"/>
          <a:stretch/>
        </p:blipFill>
        <p:spPr>
          <a:xfrm>
            <a:off x="5348160" y="990720"/>
            <a:ext cx="1916280" cy="2361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sandra-crop"/>
          <p:cNvPicPr/>
          <p:nvPr/>
        </p:nvPicPr>
        <p:blipFill>
          <a:blip r:embed="rId2"/>
          <a:stretch/>
        </p:blipFill>
        <p:spPr>
          <a:xfrm>
            <a:off x="64771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the Supreme Court in sess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m of the Supreme Court begins o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st Monday in Oc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and generally lasts unti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ne or Ju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following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judicial branch und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courts had sole authority over all cases – major weakness of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dicial Branch creat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U.S.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deral court created –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power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g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reate any lower federal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5" descr="POLRES%20FedCrt"/>
          <p:cNvPicPr/>
          <p:nvPr/>
        </p:nvPicPr>
        <p:blipFill>
          <a:blip r:embed="rId1"/>
          <a:stretch/>
        </p:blipFill>
        <p:spPr>
          <a:xfrm>
            <a:off x="533520" y="4572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555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556" name="Ink 7" descr=""/>
          <p:cNvPicPr/>
          <p:nvPr/>
        </p:nvPicPr>
        <p:blipFill>
          <a:blip r:embed="rId3"/>
          <a:stretch/>
        </p:blipFill>
        <p:spPr>
          <a:xfrm>
            <a:off x="1917720" y="3352680"/>
            <a:ext cx="138240" cy="1011240"/>
          </a:xfrm>
          <a:prstGeom prst="rect">
            <a:avLst/>
          </a:prstGeom>
          <a:ln w="0">
            <a:noFill/>
          </a:ln>
        </p:spPr>
      </p:pic>
      <p:pic>
        <p:nvPicPr>
          <p:cNvPr id="557" name="Ink 8" descr=""/>
          <p:cNvPicPr/>
          <p:nvPr/>
        </p:nvPicPr>
        <p:blipFill>
          <a:blip r:embed="rId4"/>
          <a:stretch/>
        </p:blipFill>
        <p:spPr>
          <a:xfrm>
            <a:off x="3149640" y="4172040"/>
            <a:ext cx="1219320" cy="336600"/>
          </a:xfrm>
          <a:prstGeom prst="rect">
            <a:avLst/>
          </a:prstGeom>
          <a:ln w="0">
            <a:noFill/>
          </a:ln>
        </p:spPr>
      </p:pic>
      <p:pic>
        <p:nvPicPr>
          <p:cNvPr id="558" name="Ink 9" descr=""/>
          <p:cNvPicPr/>
          <p:nvPr/>
        </p:nvPicPr>
        <p:blipFill>
          <a:blip r:embed="rId5"/>
          <a:stretch/>
        </p:blipFill>
        <p:spPr>
          <a:xfrm>
            <a:off x="4935600" y="3676680"/>
            <a:ext cx="325440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Ink 10" descr=""/>
          <p:cNvPicPr/>
          <p:nvPr/>
        </p:nvPicPr>
        <p:blipFill>
          <a:blip r:embed="rId6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560" name="Ink 11" descr=""/>
          <p:cNvPicPr/>
          <p:nvPr/>
        </p:nvPicPr>
        <p:blipFill>
          <a:blip r:embed="rId7"/>
          <a:stretch/>
        </p:blipFill>
        <p:spPr>
          <a:xfrm>
            <a:off x="4151160" y="1198440"/>
            <a:ext cx="3351240" cy="416160"/>
          </a:xfrm>
          <a:prstGeom prst="rect">
            <a:avLst/>
          </a:prstGeom>
          <a:ln w="0">
            <a:noFill/>
          </a:ln>
        </p:spPr>
      </p:pic>
      <p:pic>
        <p:nvPicPr>
          <p:cNvPr id="561" name="Ink 12" descr=""/>
          <p:cNvPicPr/>
          <p:nvPr/>
        </p:nvPicPr>
        <p:blipFill>
          <a:blip r:embed="rId8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  <p:pic>
        <p:nvPicPr>
          <p:cNvPr id="562" name="Ink 13" descr=""/>
          <p:cNvPicPr/>
          <p:nvPr/>
        </p:nvPicPr>
        <p:blipFill>
          <a:blip r:embed="rId9"/>
          <a:stretch/>
        </p:blipFill>
        <p:spPr>
          <a:xfrm>
            <a:off x="1890720" y="3362400"/>
            <a:ext cx="165240" cy="1011240"/>
          </a:xfrm>
          <a:prstGeom prst="rect">
            <a:avLst/>
          </a:prstGeom>
          <a:ln w="0">
            <a:noFill/>
          </a:ln>
        </p:spPr>
      </p:pic>
      <p:pic>
        <p:nvPicPr>
          <p:cNvPr id="563" name="Ink 14" descr=""/>
          <p:cNvPicPr/>
          <p:nvPr/>
        </p:nvPicPr>
        <p:blipFill>
          <a:blip r:embed="rId10"/>
          <a:stretch/>
        </p:blipFill>
        <p:spPr>
          <a:xfrm>
            <a:off x="4944960" y="3706920"/>
            <a:ext cx="3335400" cy="372960"/>
          </a:xfrm>
          <a:prstGeom prst="rect">
            <a:avLst/>
          </a:prstGeom>
          <a:ln w="0">
            <a:noFill/>
          </a:ln>
        </p:spPr>
      </p:pic>
      <p:pic>
        <p:nvPicPr>
          <p:cNvPr id="564" name="Ink 15" descr=""/>
          <p:cNvPicPr/>
          <p:nvPr/>
        </p:nvPicPr>
        <p:blipFill>
          <a:blip r:embed="rId11"/>
          <a:stretch/>
        </p:blipFill>
        <p:spPr>
          <a:xfrm>
            <a:off x="3159000" y="4135320"/>
            <a:ext cx="120024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upreme Court accept a case to re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ousa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ases are appealed to the Supreme Court every year-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w hundr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actually he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ases denied beca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) Justices agree with the lower court deci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.) Justices believe the case does not involve a significant point of l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that are accepted must meet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le of fo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 of the nine justices must agree to hear the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f the cases accepted may be disposed of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ief o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ed to the lower court for reconsideration because of a related case which was recently decid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presented to the Supreme Court may be presented throu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.) Writ of Certiorar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n order by the Court (when petitioned) directing a lower court to send up records of a case for re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.)Certific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 lower court asks the Supreme Court about a rule of law or procedures in specific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ase reaches the Supreme Court, lawyers for each party file a writt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detailed statement of the facts of the case supporting a particular position by presenting arguments based on relevant facts and citations from previous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rgu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both sides to present their positions to the justices during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 minute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may interrupt lawyers during this time, raising questions or challenging points of la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reme Court decisions are explained in a written statement called 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ajority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ie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inority, the mo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ior associate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majority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Types of Opin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 Majority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pinion agreed upon by a majority of the jus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 Concurr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 or justices who agree with the majority opinion, but not with the reasoning behind the deci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Dissent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s or justices who disagree with the majority opi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pinion becom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ce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ndards or guides to be followed in deciding similar cases in the fu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.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oe v. Wad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abortion),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Mapp v. Ohi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xclusionary ru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ren Court (1953-19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Earl War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aid to be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most liberal court ever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rown v. Board of Education (195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ed segregation in public sch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Gideon v. Wainwright (196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states required to provide attorneys for those accused of a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iranda v. Arizona (1966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lice have to inform anyone questioned of their rights in order to use the information in co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asset_upload_file983_12268"/>
          <p:cNvPicPr/>
          <p:nvPr/>
        </p:nvPicPr>
        <p:blipFill>
          <a:blip r:embed="rId1"/>
          <a:stretch/>
        </p:blipFill>
        <p:spPr>
          <a:xfrm>
            <a:off x="9907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rger Court (1969-198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Warren Bur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ed the Supreme Court to 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nserv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ichard Nix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oe v. Wade (1973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declared abortions legal with special time constra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U.S. v. Nixon (1974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led that President Nixon’s private recordings were not protected under presidential privilege and ordered them be turned over to the house investig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4" descr="pf041950"/>
          <p:cNvPicPr/>
          <p:nvPr/>
        </p:nvPicPr>
        <p:blipFill>
          <a:blip r:embed="rId1"/>
          <a:stretch/>
        </p:blipFill>
        <p:spPr>
          <a:xfrm>
            <a:off x="5638680" y="4343400"/>
            <a:ext cx="18748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hnquist Court (1986-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ief Justice William Rehnqu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ervativ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continued to limit, but not reverse, decisions of earlier more liberal courts in the areas of defendant’s rights, abortion, and affirma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Planned Parenthood v. Casey (1992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held and ruled constitutional a Pennsylvania law requiring a minor to wait 24 hours after receiving parental approval before getting an abortion – but ruled unconstitutional a provision that required a woman to obtain “informed spousal consent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fore having an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Roper v. Simmons (200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lared that the death penalty was unconstitutional for anyone under the age of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230px-William_Rehnquist"/>
          <p:cNvPicPr/>
          <p:nvPr/>
        </p:nvPicPr>
        <p:blipFill>
          <a:blip r:embed="rId1"/>
          <a:stretch/>
        </p:blipFill>
        <p:spPr>
          <a:xfrm>
            <a:off x="4495680" y="4876920"/>
            <a:ext cx="14302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 Typ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.) Judicial Activ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play a more active role in creating national policies and answering questions of conflict in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.) Judicial Restra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operate strictly within the limits of the Constitution and only answer questions if a clear violation of the Constitution is present. Policy making should be left up to the executive and legislative branch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0" name="Picture 9" descr="taf2"/>
          <p:cNvPicPr/>
          <p:nvPr/>
        </p:nvPicPr>
        <p:blipFill>
          <a:blip r:embed="rId1"/>
          <a:stretch/>
        </p:blipFill>
        <p:spPr>
          <a:xfrm>
            <a:off x="990720" y="1143000"/>
            <a:ext cx="4876560" cy="48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Checks%20and%20Balances"/>
          <p:cNvPicPr/>
          <p:nvPr/>
        </p:nvPicPr>
        <p:blipFill>
          <a:blip r:embed="rId1"/>
          <a:stretch/>
        </p:blipFill>
        <p:spPr>
          <a:xfrm>
            <a:off x="1523880" y="228600"/>
            <a:ext cx="6115320" cy="6248520"/>
          </a:xfrm>
          <a:prstGeom prst="rect">
            <a:avLst/>
          </a:prstGeom>
          <a:ln w="0">
            <a:noFill/>
          </a:ln>
        </p:spPr>
      </p:pic>
      <p:pic>
        <p:nvPicPr>
          <p:cNvPr id="566" name="Ink 6" descr=""/>
          <p:cNvPicPr/>
          <p:nvPr/>
        </p:nvPicPr>
        <p:blipFill>
          <a:blip r:embed="rId2"/>
          <a:stretch/>
        </p:blipFill>
        <p:spPr>
          <a:xfrm>
            <a:off x="3971880" y="5172120"/>
            <a:ext cx="1424160" cy="264960"/>
          </a:xfrm>
          <a:prstGeom prst="rect">
            <a:avLst/>
          </a:prstGeom>
          <a:ln w="0">
            <a:noFill/>
          </a:ln>
        </p:spPr>
      </p:pic>
      <p:pic>
        <p:nvPicPr>
          <p:cNvPr id="567" name="Ink 7" descr=""/>
          <p:cNvPicPr/>
          <p:nvPr/>
        </p:nvPicPr>
        <p:blipFill>
          <a:blip r:embed="rId3"/>
          <a:stretch/>
        </p:blipFill>
        <p:spPr>
          <a:xfrm>
            <a:off x="4346640" y="5375160"/>
            <a:ext cx="807840" cy="25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8" descr=""/>
          <p:cNvPicPr/>
          <p:nvPr/>
        </p:nvPicPr>
        <p:blipFill>
          <a:blip r:embed="rId4"/>
          <a:stretch/>
        </p:blipFill>
        <p:spPr>
          <a:xfrm>
            <a:off x="4267080" y="5546880"/>
            <a:ext cx="922320" cy="282600"/>
          </a:xfrm>
          <a:prstGeom prst="rect">
            <a:avLst/>
          </a:prstGeom>
          <a:ln w="0">
            <a:noFill/>
          </a:ln>
        </p:spPr>
      </p:pic>
      <p:pic>
        <p:nvPicPr>
          <p:cNvPr id="569" name="Ink 9" descr=""/>
          <p:cNvPicPr/>
          <p:nvPr/>
        </p:nvPicPr>
        <p:blipFill>
          <a:blip r:embed="rId5"/>
          <a:stretch/>
        </p:blipFill>
        <p:spPr>
          <a:xfrm>
            <a:off x="4213080" y="5672160"/>
            <a:ext cx="1022400" cy="291960"/>
          </a:xfrm>
          <a:prstGeom prst="rect">
            <a:avLst/>
          </a:prstGeom>
          <a:ln w="0">
            <a:noFill/>
          </a:ln>
        </p:spPr>
      </p:pic>
      <p:pic>
        <p:nvPicPr>
          <p:cNvPr id="570" name="Ink 10" descr=""/>
          <p:cNvPicPr/>
          <p:nvPr/>
        </p:nvPicPr>
        <p:blipFill>
          <a:blip r:embed="rId6"/>
          <a:stretch/>
        </p:blipFill>
        <p:spPr>
          <a:xfrm>
            <a:off x="4230720" y="5832360"/>
            <a:ext cx="950760" cy="2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.S. Court System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 ha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of cour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federal law or any constitutional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e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stat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05120" y="44197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mina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charges an individual with violating one or more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ivi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resolves a dispute between two pa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x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away Ju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reme Court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District Court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through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.S. Court of Appeal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appe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Picture 4" descr="fig1"/>
          <p:cNvPicPr/>
          <p:nvPr/>
        </p:nvPicPr>
        <p:blipFill>
          <a:blip r:embed="rId1"/>
          <a:stretch/>
        </p:blipFill>
        <p:spPr>
          <a:xfrm>
            <a:off x="1447920" y="3192480"/>
            <a:ext cx="6172200" cy="3408480"/>
          </a:xfrm>
          <a:prstGeom prst="rect">
            <a:avLst/>
          </a:prstGeom>
          <a:ln w="0">
            <a:noFill/>
          </a:ln>
        </p:spPr>
      </p:pic>
      <p:pic>
        <p:nvPicPr>
          <p:cNvPr id="577" name="Ink 5" descr=""/>
          <p:cNvPicPr/>
          <p:nvPr/>
        </p:nvPicPr>
        <p:blipFill>
          <a:blip r:embed="rId2"/>
          <a:stretch/>
        </p:blipFill>
        <p:spPr>
          <a:xfrm>
            <a:off x="3857760" y="6000840"/>
            <a:ext cx="492120" cy="233280"/>
          </a:xfrm>
          <a:prstGeom prst="rect">
            <a:avLst/>
          </a:prstGeom>
          <a:ln w="0">
            <a:noFill/>
          </a:ln>
        </p:spPr>
      </p:pic>
      <p:pic>
        <p:nvPicPr>
          <p:cNvPr id="578" name="Ink 6" descr=""/>
          <p:cNvPicPr/>
          <p:nvPr/>
        </p:nvPicPr>
        <p:blipFill>
          <a:blip r:embed="rId3"/>
          <a:stretch/>
        </p:blipFill>
        <p:spPr>
          <a:xfrm>
            <a:off x="3784680" y="3440160"/>
            <a:ext cx="1530360" cy="272880"/>
          </a:xfrm>
          <a:prstGeom prst="rect">
            <a:avLst/>
          </a:prstGeom>
          <a:ln w="0">
            <a:noFill/>
          </a:ln>
        </p:spPr>
      </p:pic>
      <p:pic>
        <p:nvPicPr>
          <p:cNvPr id="579" name="Ink 7" descr=""/>
          <p:cNvPicPr/>
          <p:nvPr/>
        </p:nvPicPr>
        <p:blipFill>
          <a:blip r:embed="rId4"/>
          <a:stretch/>
        </p:blipFill>
        <p:spPr>
          <a:xfrm>
            <a:off x="4168800" y="4635360"/>
            <a:ext cx="771480" cy="263520"/>
          </a:xfrm>
          <a:prstGeom prst="rect">
            <a:avLst/>
          </a:prstGeom>
          <a:ln w="0">
            <a:noFill/>
          </a:ln>
        </p:spPr>
      </p:pic>
      <p:pic>
        <p:nvPicPr>
          <p:cNvPr id="580" name="Ink 8" descr=""/>
          <p:cNvPicPr/>
          <p:nvPr/>
        </p:nvPicPr>
        <p:blipFill>
          <a:blip r:embed="rId5"/>
          <a:stretch/>
        </p:blipFill>
        <p:spPr>
          <a:xfrm>
            <a:off x="4141800" y="4867200"/>
            <a:ext cx="852480" cy="249480"/>
          </a:xfrm>
          <a:prstGeom prst="rect">
            <a:avLst/>
          </a:prstGeom>
          <a:ln w="0">
            <a:noFill/>
          </a:ln>
        </p:spPr>
      </p:pic>
      <p:pic>
        <p:nvPicPr>
          <p:cNvPr id="581" name="Ink 9" descr=""/>
          <p:cNvPicPr/>
          <p:nvPr/>
        </p:nvPicPr>
        <p:blipFill>
          <a:blip r:embed="rId6"/>
          <a:stretch/>
        </p:blipFill>
        <p:spPr>
          <a:xfrm>
            <a:off x="4338720" y="5931000"/>
            <a:ext cx="601560" cy="247680"/>
          </a:xfrm>
          <a:prstGeom prst="rect">
            <a:avLst/>
          </a:prstGeom>
          <a:ln w="0">
            <a:noFill/>
          </a:ln>
        </p:spPr>
      </p:pic>
      <p:pic>
        <p:nvPicPr>
          <p:cNvPr id="582" name="Ink 10" descr=""/>
          <p:cNvPicPr/>
          <p:nvPr/>
        </p:nvPicPr>
        <p:blipFill>
          <a:blip r:embed="rId7"/>
          <a:stretch/>
        </p:blipFill>
        <p:spPr>
          <a:xfrm>
            <a:off x="4248000" y="6127920"/>
            <a:ext cx="709920" cy="27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hat is a Federal Cr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ri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a crime that is either made illegal by U.S. federal legislation or a crime that occurs on U.S. federal proper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hostage-t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with the intent of preventing testimony by a witness, victim, or informant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iling of injurious articles with intent to kill or resulting in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for hi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nk-robbery-related murder or kidnapp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by the use of a weapon of mass destruc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fficking in large quantities of drug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95320" y="10666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related to the smuggling of illegal immigr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during a drug-related drive-by shoo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at an airport serving international civil avi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vil rights offenses resulting in dea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member of Congress, an important executive official, or a Supreme Court Justi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by the use of a firearm during a crime of violence or a drug trafficking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U.S. national in a foreign count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kidnapp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involving tortu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pion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jacking of airpl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Federal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isdi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hority of the courts to hear certain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ypes of Feder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y to hear a case for the firs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ls are conducted, evidence is presented, and juries determine outcome of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District Cour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n certain cases) have origin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ts that hear reviews or appeals of decisions from the lower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ourts of Appeal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Concurrent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certain types of cases to be tried in either the federal or state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)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ry state has at least one;  more people = more district cour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GA has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istrict courts (w/ over 550 judg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civil and criminal cases arising under the Constitution and federal la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ppointed by President of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 only be remov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 guilty ver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articipants in the Judicial Syste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ig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intif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ringing the char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enda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eing accused or char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people who decide the outcome of the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gavel"/>
          <p:cNvPicPr/>
          <p:nvPr/>
        </p:nvPicPr>
        <p:blipFill>
          <a:blip r:embed="rId1"/>
          <a:stretch/>
        </p:blipFill>
        <p:spPr>
          <a:xfrm>
            <a:off x="685800" y="312408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Anderson, Jacquelyn</cp:lastModifiedBy>
  <dcterms:modified xsi:type="dcterms:W3CDTF">2011-04-28T17:12:46Z</dcterms:modified>
  <cp:revision>14</cp:revision>
  <dc:subject/>
  <dc:title>The Judicial Branch</dc:title>
</cp:coreProperties>
</file>